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944-1AF2-4627-B69E-7963BE8C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A53-A0D1-46B1-BAEC-A565D66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159-B6E3-41F8-A466-FED68D40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544-131F-4B19-AD66-F92775B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897-A77E-47A3-BC76-4A0C585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1C1-B20D-43F6-82D0-28C1998E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8A4-6DC9-4CFE-8F8C-DC01418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E7E-9E11-4A77-9B6F-786D72F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A18-4267-4FC9-80B5-333608F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CF2-DB2C-4686-BEFA-0B1EE9D0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D8B-47FD-4208-920E-EC4B417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87F-E7E4-4948-9986-2A59ADFB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10E-DA9F-4BE0-832D-C9853D0B53F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ur 1 var.bmp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0:33:34Z</dcterms:created>
  <dc:creator>Mitch</dc:creator>
  <dc:description/>
  <dc:language>en-US</dc:language>
  <cp:lastModifiedBy>Mitch</cp:lastModifiedBy>
  <dcterms:modified xsi:type="dcterms:W3CDTF">2011-01-06T00:34:07Z</dcterms:modified>
  <cp:revision>1</cp:revision>
  <dc:subject/>
  <dc:title>Slide 1</dc:title>
</cp:coreProperties>
</file>